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9BA-1BA9-45B2-937A-9421F1B4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7D6-F76B-431F-8FB8-1799DF75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16C-FAFF-4FD1-B948-03A57EC7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057-259D-4693-A6A1-4E3B0550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421D-A9B8-4C3A-A028-D6FA6F13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1D48-205D-41B1-BB69-90C9C1CC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16A0-3321-43B4-A634-D2CB0C0D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9CB3-CC21-4F7B-80DF-A84CEFFD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424D-8B76-4B0E-BD79-E5D91B2B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82CC-3E67-4866-B7BB-A5894123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FA8E-2FB7-4906-AC1D-3A20D0F9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299-248D-4818-AE60-CBF53E94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2ECB-19DF-4E7F-B267-617DC717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A35B-5721-404A-A2DA-39E615BF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0CFE-51BC-494D-8E8C-4C14130E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2BC7-8B3D-4449-9985-6DE1C09F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249F-7C6E-4D2F-A44A-A3F1052F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FB04B-AAA8-43D4-BE44-714670BE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F1E2C-7269-4AD7-AA75-BB09B60C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B949E-7FB7-4826-9833-CFCBBB91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1AB64-7D43-4594-88C3-075E74CC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32FAB-2C76-4080-9FCE-950A3072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38B-AB8E-440E-BFEA-00D81541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3AEC9-40B9-48A7-9206-B2BF07CB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FA3F8-AC3C-4BCC-9A74-36B5D0B2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39A6-45F3-4493-AA54-9147BFCF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E631F-B42A-49E1-A753-4EA4E114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06AA9-1D37-44FB-963D-9CB4078F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0E56B-A6A5-4548-91E5-8A6158DE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8FF50-C59B-4AD0-97F3-32AB53EE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AED83-CD46-4A9D-B284-D382EC67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711D2-994B-47C8-92A9-5EE54DD2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97282-ADC9-4819-A7F8-BA99DABC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848-214C-41FF-853D-53A478F7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3BCD4-E3BC-496D-9818-7B985D44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C0BCB-1B81-4354-B405-8370A744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6A205-6C14-42EB-AC59-6147E884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C765E-C954-4A89-B008-7BB5C167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5545E-3998-4BDA-BC6A-D12ED7B8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FF58E-C1BB-442A-824F-6A86B9AB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84E04-FE80-4AF7-B4D1-B7B1BA59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468C8-153B-4291-88AB-438E9AF7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306BD-B788-4AC9-BE9A-F41F78AA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5E5-65A4-4C3C-9BE9-FE8BF9BC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E40-1E46-434B-BE99-8C79B503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97DC-C379-4BC1-93A6-2D194E81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FF3-3AFE-4B0F-8E32-1108640B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A44-0FFD-41A0-AFCD-666C3C6C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BA3D-DF95-454C-8C5B-64CE40B0556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D854-DF9F-4CBE-B577-CDB695ECF0F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988F-D278-49FC-B522-D9F801681AD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78AD-F500-49CC-A26D-0D09BD36B2F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12760" y="165240"/>
            <a:ext cx="8583480" cy="3840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4286160"/>
            <a:ext cx="7854840" cy="1928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полнила учитель математики МБОУ СОШ № 18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т. Ивановской Красноармейского райо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3495c"/>
                </a:solidFill>
                <a:latin typeface="Constantia"/>
              </a:rPr>
              <a:t>Смирнова Надежда Вячеславов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2" descr="D:\Documents and Settings\Admin\Мои документы\Школа\аттестация\картинки о войне\leningrad65012.jpg"/>
          <p:cNvPicPr/>
          <p:nvPr/>
        </p:nvPicPr>
        <p:blipFill>
          <a:blip r:embed="rId1"/>
          <a:stretch/>
        </p:blipFill>
        <p:spPr>
          <a:xfrm>
            <a:off x="428760" y="357120"/>
            <a:ext cx="842940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2" descr="D:\Documents and Settings\Admin\Мои документы\Школа\аттестация\картинки о войне\leningrad65013.jpg"/>
          <p:cNvPicPr/>
          <p:nvPr/>
        </p:nvPicPr>
        <p:blipFill>
          <a:blip r:embed="rId1"/>
          <a:stretch/>
        </p:blipFill>
        <p:spPr>
          <a:xfrm>
            <a:off x="571680" y="428760"/>
            <a:ext cx="814356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2" descr="D:\Documents and Settings\Admin\Мои документы\Школа\аттестация\картинки о войне\leningrad65014.jpg"/>
          <p:cNvPicPr/>
          <p:nvPr/>
        </p:nvPicPr>
        <p:blipFill>
          <a:blip r:embed="rId1"/>
          <a:stretch/>
        </p:blipFill>
        <p:spPr>
          <a:xfrm>
            <a:off x="642960" y="571680"/>
            <a:ext cx="800100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Picture 2" descr="D:\Documents and Settings\Admin\Мои документы\Школа\аттестация\картинки о войне\leningrad65019.jpg"/>
          <p:cNvPicPr/>
          <p:nvPr/>
        </p:nvPicPr>
        <p:blipFill>
          <a:blip r:embed="rId1"/>
          <a:stretch/>
        </p:blipFill>
        <p:spPr>
          <a:xfrm>
            <a:off x="571680" y="500040"/>
            <a:ext cx="800100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2" descr="D:\Documents and Settings\Admin\Мои документы\Школа\аттестация\картинки о войне\leningrad65018.jpg"/>
          <p:cNvPicPr/>
          <p:nvPr/>
        </p:nvPicPr>
        <p:blipFill>
          <a:blip r:embed="rId1"/>
          <a:stretch/>
        </p:blipFill>
        <p:spPr>
          <a:xfrm>
            <a:off x="500040" y="642960"/>
            <a:ext cx="821520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2" descr="D:\Documents and Settings\Admin\Мои документы\Школа\аттестация\картинки о войне\leningrad65022.jpg"/>
          <p:cNvPicPr/>
          <p:nvPr/>
        </p:nvPicPr>
        <p:blipFill>
          <a:blip r:embed="rId1"/>
          <a:stretch/>
        </p:blipFill>
        <p:spPr>
          <a:xfrm>
            <a:off x="507960" y="642960"/>
            <a:ext cx="812808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2" descr="D:\Documents and Settings\Admin\Мои документы\Школа\аттестация\картинки о войне\leningrad65023.jpg"/>
          <p:cNvPicPr/>
          <p:nvPr/>
        </p:nvPicPr>
        <p:blipFill>
          <a:blip r:embed="rId1"/>
          <a:stretch/>
        </p:blipFill>
        <p:spPr>
          <a:xfrm>
            <a:off x="642960" y="714240"/>
            <a:ext cx="80722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2" descr="D:\Documents and Settings\Admin\Мои документы\Школа\аттестация\картинки о войне\leningrad65024.jpg"/>
          <p:cNvPicPr/>
          <p:nvPr/>
        </p:nvPicPr>
        <p:blipFill>
          <a:blip r:embed="rId1"/>
          <a:stretch/>
        </p:blipFill>
        <p:spPr>
          <a:xfrm>
            <a:off x="642960" y="785880"/>
            <a:ext cx="814392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Picture 2" descr="D:\Documents and Settings\Admin\Мои документы\Школа\аттестация\картинки о войне\leningrad65029.jpg"/>
          <p:cNvPicPr/>
          <p:nvPr/>
        </p:nvPicPr>
        <p:blipFill>
          <a:blip r:embed="rId1"/>
          <a:stretch/>
        </p:blipFill>
        <p:spPr>
          <a:xfrm>
            <a:off x="357120" y="714240"/>
            <a:ext cx="85726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8" name="Picture 2" descr="D:\Documents and Settings\Admin\Мои документы\Школа\аттестация\картинки о войне\leningrad65058.jpg"/>
          <p:cNvPicPr/>
          <p:nvPr/>
        </p:nvPicPr>
        <p:blipFill>
          <a:blip r:embed="rId1"/>
          <a:stretch/>
        </p:blipFill>
        <p:spPr>
          <a:xfrm>
            <a:off x="500040" y="714240"/>
            <a:ext cx="82152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ыполните действие: 1/8  ×  3 ;      1/8  :  3;    1/24  + 1/8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равните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а) 1/8 и 1/16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б) 1/16 и 1/24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Picture 2" descr="D:\Documents and Settings\Admin\Мои документы\Школа\аттестация\картинки о войне\leningrad65076.jpg"/>
          <p:cNvPicPr/>
          <p:nvPr/>
        </p:nvPicPr>
        <p:blipFill>
          <a:blip r:embed="rId1"/>
          <a:stretch/>
        </p:blipFill>
        <p:spPr>
          <a:xfrm>
            <a:off x="714240" y="642960"/>
            <a:ext cx="807264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Picture 2" descr="D:\Documents and Settings\Admin\Мои документы\Школа\аттестация\картинки о войне\leningrad65099.jpg"/>
          <p:cNvPicPr/>
          <p:nvPr/>
        </p:nvPicPr>
        <p:blipFill>
          <a:blip r:embed="rId1"/>
          <a:stretch/>
        </p:blipFill>
        <p:spPr>
          <a:xfrm>
            <a:off x="642960" y="642960"/>
            <a:ext cx="78580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D:\Documents and Settings\Admin\Мои документы\Школа\аттестация\картинки о войне\leningrad65077.jpg"/>
          <p:cNvPicPr/>
          <p:nvPr/>
        </p:nvPicPr>
        <p:blipFill>
          <a:blip r:embed="rId1"/>
          <a:stretch/>
        </p:blipFill>
        <p:spPr>
          <a:xfrm>
            <a:off x="642960" y="642960"/>
            <a:ext cx="82152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2" descr="D:\Documents and Settings\Admin\Мои документы\Школа\аттестация\картинки о войне\imgpreview.jpg"/>
          <p:cNvPicPr/>
          <p:nvPr/>
        </p:nvPicPr>
        <p:blipFill>
          <a:blip r:embed="rId1"/>
          <a:stretch/>
        </p:blipFill>
        <p:spPr>
          <a:xfrm>
            <a:off x="571680" y="3000240"/>
            <a:ext cx="3714480" cy="3000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D:\Documents and Settings\Admin\Мои документы\Школа\аттестация\картинки о войне\imgpreview (3).jpg"/>
          <p:cNvPicPr/>
          <p:nvPr/>
        </p:nvPicPr>
        <p:blipFill>
          <a:blip r:embed="rId2"/>
          <a:stretch/>
        </p:blipFill>
        <p:spPr>
          <a:xfrm>
            <a:off x="4714920" y="3000240"/>
            <a:ext cx="3929040" cy="3033720"/>
          </a:xfrm>
          <a:prstGeom prst="rect">
            <a:avLst/>
          </a:prstGeom>
          <a:ln w="0">
            <a:noFill/>
          </a:ln>
        </p:spPr>
      </p:pic>
      <p:sp>
        <p:nvSpPr>
          <p:cNvPr id="202" name="Заголовок 1"/>
          <p:cNvSpPr/>
          <p:nvPr/>
        </p:nvSpPr>
        <p:spPr>
          <a:xfrm>
            <a:off x="609480" y="857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Заголовок 1"/>
          <p:cNvSpPr/>
          <p:nvPr/>
        </p:nvSpPr>
        <p:spPr>
          <a:xfrm>
            <a:off x="762120" y="1009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Прямоугольник 9"/>
          <p:cNvSpPr/>
          <p:nvPr/>
        </p:nvSpPr>
        <p:spPr>
          <a:xfrm>
            <a:off x="714240" y="285840"/>
            <a:ext cx="785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nstantia"/>
              </a:rPr>
              <a:t>Одна такая «восьмушка» была дневным рационом ленинградцев в самые тяжелые дни блокады этого город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Дорога жизни»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D:\Documents and Settings\Admin\Мои документы\Школа\аттестация\картинки о войне\imgpreview (2).jpg"/>
          <p:cNvPicPr/>
          <p:nvPr/>
        </p:nvPicPr>
        <p:blipFill>
          <a:blip r:embed="rId1"/>
          <a:stretch/>
        </p:blipFill>
        <p:spPr>
          <a:xfrm>
            <a:off x="214200" y="2143080"/>
            <a:ext cx="3857760" cy="450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D:\Documents and Settings\Admin\Мои документы\Школа\аттестация\картинки о войне\imgpreview (4).jpg"/>
          <p:cNvPicPr/>
          <p:nvPr/>
        </p:nvPicPr>
        <p:blipFill>
          <a:blip r:embed="rId2"/>
          <a:stretch/>
        </p:blipFill>
        <p:spPr>
          <a:xfrm>
            <a:off x="4071960" y="2143080"/>
            <a:ext cx="5072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  <a:ea typeface="Times New Roman"/>
              </a:rPr>
              <a:t>«Из писем на Большую землю»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аш город в снег по пояса закопан. Но если с крыш на город посмотреть,, то улицы похожи на окопы, в которых побывать успела смерть…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о в то, что умер город наш, - не верьте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ас не согнут отчаянье и страх. Мы знаем от людей, сраженных смертью, что означает: «Смертью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мер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оправ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ы знаем: клятвы говорить не прост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о если в Ленинград ворвется враг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ы разорвем последнюю из просты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Лишь на бинты, но не на белый флаг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«Февраль».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Какая длинная зима, как время медленно крадется…. в ноги ни люди, ни дома не знают, кто из них проснется. И поутру, когда ветра метелью застилают небо, опять короче, чем вчера, людская очередь за хлебом. В нас голод убивает страз. Но он же убивает силы….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На Пискаревских пустырях все шире Братские могилы….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D:\Documents and Settings\Admin\Мои документы\Школа\аттестация\картинки о войне\leningrad65001.jpg"/>
          <p:cNvPicPr/>
          <p:nvPr/>
        </p:nvPicPr>
        <p:blipFill>
          <a:blip r:embed="rId1"/>
          <a:stretch/>
        </p:blipFill>
        <p:spPr>
          <a:xfrm>
            <a:off x="571680" y="33577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D:\Documents and Settings\Admin\Мои документы\Школа\аттестация\картинки о войне\imgpreview (6).jpg"/>
          <p:cNvPicPr/>
          <p:nvPr/>
        </p:nvPicPr>
        <p:blipFill>
          <a:blip r:embed="rId2"/>
          <a:stretch/>
        </p:blipFill>
        <p:spPr>
          <a:xfrm>
            <a:off x="5000760" y="3313080"/>
            <a:ext cx="37144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Зада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) Подсчитайте, сколько граммов весит 1/8 часть булки хлеба массой в 1 кг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) Сколько граммов приходится на 1/24 часть булки 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) Какую часть буханки составляет одна треть от восьмушки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) Что больше 1/24 или 1/16? Представьте, что этими дробями выражаются доли хлебного пайка. В каком пайке больше хлеба? На сколько граммов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овсяная и ячневая мука – 51%, солодовая мука – 10%…. жмых – 15%, целлюлоза – 5 %….. рисовая лузга – 15% , обойная пыльца – 6%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00000"/>
                </a:solidFill>
                <a:uFillTx/>
                <a:latin typeface="Constantia"/>
              </a:rPr>
              <a:t>ТАКОВ СОСТАВ 125 ГРАММ ДНЕВНОЙ НОРМЫ БЛОКАДНОГО ХЛЕБА ЛЕНИНГРАДЦЕ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2" descr="D:\Documents and Settings\Admin\Мои документы\Школа\аттестация\картинки о войне\leningrad65003.jpg"/>
          <p:cNvPicPr/>
          <p:nvPr/>
        </p:nvPicPr>
        <p:blipFill>
          <a:blip r:embed="rId1"/>
          <a:stretch/>
        </p:blipFill>
        <p:spPr>
          <a:xfrm>
            <a:off x="500040" y="571680"/>
            <a:ext cx="814392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8:53:40Z</dcterms:created>
  <dc:creator>Admin</dc:creator>
  <dc:description/>
  <dc:language>en-US</dc:language>
  <cp:lastModifiedBy>Admin</cp:lastModifiedBy>
  <dcterms:modified xsi:type="dcterms:W3CDTF">2012-11-04T09:49:01Z</dcterms:modified>
  <cp:revision>6</cp:revision>
  <dc:subject/>
  <dc:title>Урок  математики  в 6 классе по теме «Действия с обыкновенными дробями» посвященный  67-летию великой Победы , блокаде Ленинграда. </dc:title>
</cp:coreProperties>
</file>